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0BE-ACC3-40DC-A639-E7FCAF1B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5BE-3DD0-4EDA-8143-2B0A5A49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5C829-0E5A-4DC1-A223-1B78116D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82E17-AFA7-4654-A055-6E120E5A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5A672-5942-451F-8F3C-EBBFAF7D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F6C95-F94B-477F-94DD-463762E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69DB8-2B0C-4125-9A19-EF315C73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93EA0-7579-4A78-B1AA-A48FB5D9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68D8D-4AFC-442A-AD8C-8F318B24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3DABB-A943-4300-A654-32CB680D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8169A-BC91-4C65-B4AA-AC61417B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0960E-F1CF-4C2E-9625-9A0228E1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F91-2F99-4E73-8DC4-200E956D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FC14C-3424-4AB4-BB6A-4CD8CF0C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C5E16-1087-46BD-B40C-696CA7BF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63F9E-5933-4563-A8B3-97FBFE48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4384D-DF3C-41C4-B4F5-D9B3F408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AC555-FAFF-45AB-B0F5-AEA119B1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4D18F-1E91-457A-98E2-DB9C2D94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A427C-5CFA-4AC2-8221-EBA482D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F8A94-EA15-4458-BF40-C9582851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87454-13B6-4929-AFE3-52FDBDB9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000B4-6920-46BA-9ED5-DDF4DA56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8A4-0289-4E8C-8643-79DBAED6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6CA5A-07AD-4CD2-9DA7-738F9376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46354-9E61-4D73-8507-C5A7C833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4F916-264D-4C37-A21B-3F25A29F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1C7E0-B0B9-42EF-9673-225597AE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37C33-8F23-4414-B023-47591A2D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486F8-2431-418C-83D7-17E53B86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5502D-3724-4B03-85CB-0066858E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FBA7A-0485-498C-A82E-442687E8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D185C-E170-40D3-89B8-F8CACAF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BB5B9-2371-4C3A-B892-9C6C426E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41AC-6B3B-4BD7-B6F9-1FEB5BD9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E6C53-3791-4507-90B6-5830D0A0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C59D7-96DD-40CC-9A5F-5148EA76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84803-D87C-43D6-82CD-B754B3FF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FE200-AE7A-4A42-8A44-9C15F7BC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23F5C-FF89-4180-9785-BF7A7C12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CF797-229C-44FB-ABF7-CCDAE072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F58A2-8853-481E-AC81-4CB5EEB5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161EE-2132-4E99-88E8-354C945C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1D276-DC04-4472-8DBB-E576B5BB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66AFF-3819-4114-A9A3-2804D174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4CB5-6D8C-4AB1-9B74-5CA80634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E0DD7-C019-4E98-B938-F47C44C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8290D-A02E-472A-8E38-647EDB18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1AAD1-4708-4BBD-9D24-36BAE004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580E9-0801-4E27-9857-D31BC0FC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0CD74-F528-432C-9D9F-9ED0890F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1E51E-5724-4037-84FC-FA4F68AB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05C69-828B-4E25-8D26-F2FC9A05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2C7CC-E8BD-4BAD-94AE-77455259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D7A37-785C-43FB-9CC2-D746E68F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6220A-0274-4F8C-BA67-CA70B86A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24AC-CC98-42DB-AD96-226EE470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5FCAF-180E-429F-8260-CE69AB80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175E2-16F5-47F8-9B96-957A9835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AF917-A55C-4EC6-93D9-AA595F30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7B754-6678-4928-812E-53354E88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285B4-3ABC-45FE-BF3B-349FE4A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CFA8A-E1DD-4B88-92AD-0ABE49DA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636D3-859F-481E-88EE-5ECADF63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02569-4140-4F07-A240-1394B222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41377-B670-4098-9B79-57C1B2E7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5971C-EE1E-46BA-AE74-42A66AA6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478A-CC9D-4FB0-8979-8519F4E4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5B99F-BFEE-4BFF-8EC5-126AD097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15A99-2424-432C-9424-C9E8E940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F628A-153E-456D-891E-599AF687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3D094-D177-4953-8DE2-A7AF7128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9A3D1-D5DE-4847-9A17-91E1D225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B83F9-A700-4D0B-BCA6-3471AC61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8ACA5-9125-48BC-B478-0396E714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CB2B8-5497-4D8B-B537-FB73EA3F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668CB-7335-4F60-92E4-6C05C9D8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F0252-1D60-4A05-BBB4-2C7AC279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B692-3818-4560-B2DA-483AB17A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ACC74-597D-4E7C-91C2-8FB0A01E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799A4-5304-48D4-94F1-76F415E9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0CD04-F15E-4314-A3D1-18F633CE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52AE8-EBFF-4F71-9671-54C95810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6B7E3-8B7F-4650-9786-5AB347CA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A38C1-C15B-4A67-A34E-8318EB8B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70289-3D58-41F7-B586-995728F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0D966-A352-4C5A-8A23-BB7DD94B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2EFD2-3136-49D1-8612-32DA74DD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6BAD4-4D1B-4915-A835-71FBCB18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1A30-D1F3-46CB-8DCB-847071D3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0C793-CB26-4F0D-8B70-9CD63BA0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5BBAA-E9D2-4B40-9528-100B9FD7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8EB94-5A96-42C6-9705-D3D05045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1A25C-982F-496B-ACE0-D6AC5F67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80BB34-5E31-4714-B9D4-9367E075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BA473-465B-443A-ABD7-A4B7CD13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A6868-6D95-4F1A-9671-A9EF5EC0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30A58-F5F1-42AD-A593-584C9A7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0DF76-A0E4-47D8-A252-F636463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A8555-CD24-441F-B975-A79E6B7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C0E6-3B67-45C8-A92C-71BAE387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06364-9727-499C-8E1C-476B4C46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1598B-5D2C-42CB-883A-60323E6F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570A2-5DCC-47D7-B80E-32B3AEF7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30C08-DBBA-4CE3-A66F-7527B7C4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99F40-C7F2-4AF4-B0B0-E51A4DA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14230-F13C-465E-A6E0-22EB1177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2F4124-2D90-42BA-99F7-6EE38785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BBEC5-C982-43C6-B9C4-B10C3E2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CCE01-3D36-46C3-88FE-BBD9FBDB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DC91A-B6D1-484B-89B7-9627CFF2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4D5-7D10-4D83-90D5-5CFB1BB3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C601-BB68-4A66-AC1B-C15830B6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E41CF-1EF8-4433-A22A-340D60B2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347734-907D-4645-85DF-B1154ADF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8F97C4-6752-4C52-9FA8-FCDD8DF0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52EC3-DC60-4A64-B654-2B73356C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2673D-1344-45DF-8CCE-4C9C2E4B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9480B-5A6A-40EF-BA5C-360A70A0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08F7A-AD5B-4161-9AF0-391ECC9C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DFE52-CA6F-4EF2-AAB3-3674EEE1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02BD7-C995-46B7-9049-CE521391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480F6-9CF8-45B9-8A98-DDA7F36E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9AD5-80B0-4F54-8F86-8A704121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9B158-88F1-4852-8B86-8E281A4F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D2B23-0FE6-468E-A3A2-E6664F11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C58F58-811C-4ED1-8D60-EE9C80B2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C49F8-4D73-400D-9C43-AD2F7A0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40506-D69C-43E2-8676-7BFD8E90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299F4-FE7E-4D6E-8562-23AA4F99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82304-7784-49BD-A5CF-71E221CA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FAEBA-A236-4C7B-9B15-8ACF5101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06DD76-D4EF-41EF-959F-7A693501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3FCC9-F10B-4DD2-AF01-EA39CBF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145-5506-4CD9-A841-5DDA1734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9F1DF-E59C-40A9-B4BE-64231F29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2BCB1-5179-435F-8858-19E9C6D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A6FA08-562A-4E1E-ACC2-60B4BAAE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0FA7E1-C859-43BC-B51B-0CB1DF9A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6EABF-C032-4F13-9A9D-FA3707E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29795-3620-41F7-9828-FC2B03B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AE1D4C-EA80-4052-9C62-8D67C90D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3C78B-3E55-4AFC-BE9D-3B33FB4D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53D9F-601E-40DD-B365-7E70CEB4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0E5AA3-0424-4E8D-84CA-1CAEB8EC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5358-6001-4462-82D0-52E3F7AB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14B373-A6B8-40F7-A4D3-0E13BF2C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AD74FA-14B4-46C9-B52C-32A93937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C40782-F3B7-4ABB-9EA6-D3688C60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6533E-3BD9-4A58-AD89-5C8F4DAC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618C28-9111-4BB0-8B74-1D9E6DA3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861C0-13D8-4DEA-9218-9DF58133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962F0-3D17-4BE7-88A3-DEA99F0F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D26BE-1834-4459-A421-CE2DDB1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F15EE8-4DA9-4B44-9E0E-C8D0F2DB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3A5C3F-6712-4DBE-B66D-72D4B01C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86BE-8B9E-4F94-BC3C-52998F17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E33DD-D994-4C9B-A176-019ABA16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131C1E-3119-4158-AF97-C348499B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F9569F-B200-4010-81F3-8D331087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A0732D-FEBF-4CE2-AA00-9B5333C9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99AEA2-C462-4B24-B01A-2913AC3E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15B881-7C2F-47DB-ADE8-9DDDF2A7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27B504-E166-4A94-ACD6-E40F6DE9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CBD946-FED9-43AC-AA27-CF44FEFA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7D9476-6FD7-472C-9A8E-EEBC117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6EC72-8F93-4076-8056-8658A68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2FDA-4853-4C8A-8CF7-43A03F08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A7B4A-4B23-469B-8720-FEF7798B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3B97F-7727-4607-885E-1DA24D6C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C678D0-5E7A-4777-BFA9-87423D40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890AEE-8E5C-4F76-A1D0-EB765DEF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A9BBDE-F377-4314-8980-E437FC47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EB4F19-E88B-4074-9554-67B25068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18E2EC-2D05-4790-B253-DFC3F135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4C03E6-B3C1-4AB5-BF34-BD94B330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F2B31A-5CC7-4762-8EC6-C323C885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03E0E-2B37-44E4-8FD6-0257DD9D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93BF7-BDAC-4FB2-A928-4C628F9D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BDC942-FC74-45D6-A48E-1A019DE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2604B6-B9F5-4F00-B03C-F4E76337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106230-821D-4273-9B0D-453BDC23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4AF3AB-9A16-4E3E-9172-BCA3DBDC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72F112-DAC3-403D-ACBF-21C35736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18B218-8A23-4FD0-A1CF-E2EA1D6B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DBAD61-6DB9-4517-8E2B-9A83B7D0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7C40AD-E5E8-477B-BA54-85CBF2E2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B35FF3-FC22-45F1-A153-F2DEB29D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741CA8-B519-4429-9F7F-809CCECB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84EB-1B53-433C-9547-DB9111C5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1B2086-7A31-47EA-9EFD-52C03337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57FBA2-2C3B-4B51-AA9C-E3A03567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495D57-58A3-467F-AE62-4481761B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F22EDB-DE9C-417F-ACBC-CE72FCF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18E4AB-1289-4BE9-AA29-1261C0E5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CFF05D-9B23-406F-8CCE-4CB1291D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51FB2-876E-40E5-A70D-4AD54494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26021F-A03B-4330-9174-1A872AEE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B7F933-98C1-4A1F-87E0-CA0B43F8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254518-7700-4A8E-94D1-3CC5403F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2F73-A328-4657-82F2-D52F609F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3A4891-3F15-4E51-BFF4-EE3504EB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12A588-5CEB-4FBE-A4C9-EE0612EA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AD37D5-55C4-44B9-B75B-8DC976EF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EF59B5-C415-4124-8065-1A005D74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C51B54-0F44-4C48-A575-1E81F83B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9DF097-4617-4747-8F2C-87FD888B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765976-2CE2-4052-9AB7-EA63437B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392104-DD13-414F-B0C7-84C88472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31478B-9DEB-4BD2-8899-C6894069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726376-617A-42B1-A58D-1C2CC873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EF7C5-DBFD-4924-9FF4-F5230EA7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DD2F71-6210-43AA-B7FB-9F572E96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FE2D86-9CA6-442F-9083-BB1F7100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4598FA-2C52-4247-8ECF-3A1CE8E2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EC8F53-4683-4EF5-A5E3-E0CC741F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E473F2-1875-4C90-9C2F-B9363B06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EB4B8D-2ECB-481B-AF8A-7361A694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94F932-2FB0-4AB2-82E3-D4AC0E87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5A0043-BC4F-4B83-98B6-C40BD1E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260F50-B584-404D-9B59-007ED69A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E88B09-8362-4091-B3E5-73A8F05E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473-646A-4A91-9BAB-110DA42F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2A3B-0559-482C-8946-D912FEE7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83299D-3AC2-497E-96F1-94E600D2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21AFA0-9F15-47C4-B2C3-BAD7BDAB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BB1B99-6195-4F3A-ABF1-E17C7D1E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764442-8C95-4699-A07D-F7398808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52FB01-C4A1-4C83-A86D-1C847D48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01B11D-F093-4434-966A-BF8E0AF1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E0AA17-685B-48D3-B72E-3208C1C7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E07BD5-C467-4239-ACE0-BCCD7AF1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120107-89D1-4C09-904C-D89D6EC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1E2441-FF06-4E57-B9D6-3252654F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275FB-0ED0-4749-B2E3-C016F89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5DC050-8886-4EFF-9604-77FB1ECD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1281B4-18DF-4D79-B622-EB5B2041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D231D5-D417-4D05-95FF-00990459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587E42-DDAE-40DD-86FE-C24DD1B3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B66D31-1FD0-46FD-8AE2-26CD0F24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207638-48CB-4FF0-8E8E-1D00CBAB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4D0A27-0ABA-4EDD-9DA9-55305D0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74545B-AA3B-499B-8DDF-716E9D90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6F49D8-2144-4B67-9B25-F6E7D5DB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01A8D2-A740-4B8A-99C9-67B55B4A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A7B3-51AB-4555-BC66-CBDDDDBD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05CCA3-A72B-4EC4-8CF8-10417D12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11FF09-A43D-4C24-B46B-F49D7210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C3C8D5-43B2-4049-901C-8D588B3B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1CE935-827B-4EA2-BC79-414364CE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20202E-D063-41DA-80AC-DAAC8C2B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A000C3-E614-47E2-A9B4-97155271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F79396-B914-4B70-8B0A-0929A942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068630-0F41-42E3-96BB-38074670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DD13CA-BE68-44E8-9C14-CDF5D948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63289A-86C9-4B9C-9A49-22B06405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870E-1D2B-4CE2-831F-DCB22CD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E21F5F-4599-4132-8B68-5D27720E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4004A5-18FF-412C-8AF9-56C65A7A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4FAC77-5E42-475C-95AC-8D25B51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287DA5-7FF3-4DAC-9A89-11E05F06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407470-4014-4BA7-9E81-D965C6DF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C1344B-72F8-46C7-B541-F2101180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45B2F7-87DE-4B47-AF61-5212A304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89A9FC-12F3-4FEB-9407-A90B93FE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A6F846-9EA7-4A6A-A1F6-57D1788A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42D183-9936-4037-99FE-E2738DA3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AC19-A12C-4216-BC71-10BBE6FB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A57168-B697-4D91-BDA3-2D7B1686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07C95C-BBBF-4F40-BAFF-4B4D76BB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0D9B1F-379E-4419-B7E5-AD995FAE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82DD61-8D6A-4B09-81B5-2C00F4E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97C27A-3492-4499-8F27-D9F0047B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4413A8-D577-4387-8B69-119E9F7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76CAFA-117C-450E-B485-18C9D339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92A938-8E56-4B0E-A26F-4F31757E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F8B421-5F26-4AD4-B40E-30F3DFF6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88EBD3-0155-4859-9A51-E166A6E4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A156-5223-44C7-B381-4F8DD223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2EFA5B-A0FB-42D5-B306-D3636390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8B79CF-0BE7-438C-B268-3A5A1424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878C9A-1C46-4FC0-81F5-503C01A8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946CC3-7E19-47DB-8E3B-36820760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EE07E1-ADB9-4E8D-8C57-025848CA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FC4570-14D2-40C3-B59E-02F6F76F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5466DE-4308-40ED-BCF8-F8F09B4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F90E89-D111-4A64-8E28-E0FE374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241212-BC9D-42EE-AFA9-435CB595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374E36-04C8-436D-ABFD-0334CB6E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6567-C80E-434E-8989-45266A49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7C7B44-8E9A-4809-BDFD-1F75336E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9ACE7C-1F37-4DD5-A594-69AA5642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78B03F-61D2-494A-AB20-59497E70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C14FF6-003C-41A6-9511-B806088C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6AE491-AA3E-44AB-9E12-FB2AB921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4181DD-F9CF-478E-8765-E155D23A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A48717-04A0-440C-B6FF-C7EE1425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7426EA-4496-4E88-8A33-AACDA80E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F9EB8D-4A79-4CDE-88E5-4486CFD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33FA50-01A8-4846-A93A-9050BED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A8F98-61DC-4954-B14D-5B438241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799637-B78E-46FC-8E8A-69F66818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4A535F-7E9D-43A6-82EB-D2F881BA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35D964-F61E-4D7E-B711-8409D7D6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BF60-948B-43DD-9159-636286F1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D73E7-478A-460F-BD88-9C8BCB61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0DC-7C9B-4FC5-B40A-A7EC8661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4E25-626B-424F-AC09-41810FB5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D4D62-F0BC-4CAB-946E-3EA9D93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D929-186D-42EE-99B6-DFDB9425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CD350-546E-45A6-B2EB-5E4AD91F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7CAA-634A-4AA0-B858-5FECE87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26EC-26CD-4FD6-825C-2BAF2F91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25B04-3CB2-4A27-B52E-37D93C4B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AF70D-5D7A-44E6-9044-3AAA2066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EA28-B457-4E89-80D8-50AFAF21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6414-F8D3-4A92-B97B-5F5867B7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308-0EC5-42C0-A6AE-F1198D61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D27D0-FFF5-4F72-874A-84706530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6E39-52FC-4BEE-9164-58403316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AEA2-89D5-43AB-A680-A5FF2776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04938-3667-4463-BCAA-D0374604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D2F45-3F0C-4910-B292-14943ED5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C0CA9-ADFB-43B0-B968-11E1BB98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56552-BB44-4F3E-A424-16A741B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3818A-A085-407E-B0B3-70105824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4F8A-747F-4287-8132-C1F1BB16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0C4FD-31F7-4CC2-B33E-FB9C1EA0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6F9-8897-48DA-A2A9-1B4FD60B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A602-EAB1-48BE-94E7-79978E05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F634A-F59B-443C-AF2C-9B209D25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0B27C-1671-4139-8BE9-E57515AB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E6122-EA75-4F21-ADA8-4DF38829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E7E96-6856-475D-B7BD-559F99EA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429D5-A6FB-407E-8F32-B8C0AADF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6F5B5-6DEF-4FBA-B10F-38B9D5E9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83D06-7FC1-4DAC-B922-AC6A3561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F3921-A06C-43DD-8BDE-27AD1F20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988F6-60ED-4987-B40D-9A1CA3E7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C3D-C179-4F3E-A258-33660C82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2C0EB-C5C2-41B4-973C-D2359D36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EA2FF-0FBA-4403-8C00-45FD446D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CB036-D2D2-4D0F-9FFD-F0CD7FB5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4201-A1CC-4A66-B5C5-887418D9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EB8E-49F5-4417-B252-C570136E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DB138-0E0B-46D3-86FC-A396379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9A2F4-6CEC-492B-A2E7-647AD0FA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4A282-2F44-4915-9441-097D04E5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3AFE1-382D-4552-948F-026547D8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09E29-17D3-40A0-A74F-A7AD99A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D4F-BA4D-4B95-9522-8A7DE3E2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7D3D3-3A9F-4766-9BEA-ED1B256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DCF9A-E068-4003-8CB2-DF2D4970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6C51-6A17-481F-BC2D-890309E7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80DF3-0332-4873-B443-614F7D48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3E6D2-0B68-40E0-9D00-4E335649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043E-B7B3-49D3-BFF7-09CDEF6A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5BD97-16F4-4518-8D3A-3B0B2565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E18FA-EFA1-4449-9064-5FD6FB21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A45C7-0228-4CE1-8214-8301AC1B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502BA-1C78-4BD8-852B-64EC139C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4A5-5CB5-475D-B9DE-0A359C01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2098A-7B37-4803-AAC8-998C685C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A86F1-6A8F-4D2A-A22D-AE95BAC8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5F5AD-03BE-46DE-A8E4-698BE6D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DDEEA-3613-40C2-9933-D4E0C67F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2B054-D90B-4080-BA0D-99CF0F88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411AA-C690-47E2-BEEE-CF31C91D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6E189-D67D-45D8-A5E1-94117504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2120D-36C6-4AF3-B2AC-F630E6A8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281B-15C9-42FF-B470-4F2AE1F0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9A5C4-5AE2-49BB-A3A1-4E9DAA5E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5113-C3FC-45A1-B6C2-D1615B69B6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E5E9-7FE1-4D36-A914-B1F17CC15A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BE88-977F-4A79-8A1E-77C3A94F60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9E83-BFF0-4715-BFE8-AB3D411405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E965-A872-49E3-B8AF-9D9444D98D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2CC6-73B3-4448-BF0C-828312C77C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405-AB6D-4616-8F32-048A3550FA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4489-280B-4A4C-84DF-195C0AE8C2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2D36-F81D-4A95-AF02-625819BF5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9721-27C2-4B5E-AA14-6852DBAC7A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53E8-808E-4B61-8294-0A1845D10B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92F8-2245-475F-AB7C-54CE303D6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A2E6-CF53-4591-B635-1896D988D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FCAF-97F7-46C1-911D-1FBC82169D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6B6E-F624-48A3-B50D-E35B6C0C61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96DC-34C6-44A3-A16A-5A79CB6894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EC4B-FBE0-42AB-B667-5B0A4DCD1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DECF-53E2-43B5-BE25-930AD9484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7432-78DE-45BF-B62D-709C047AD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E244-98E4-4C24-BEAE-80296031A3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E3DE-8D56-4676-935D-0483370828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51C-2E70-4E81-B8B3-18C6A9456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2082-7515-4B5D-9690-314C471D4F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C2D3-D1DF-480B-8E82-63F4E8887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9299-DD4C-49BA-B198-F005C69137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F6B3-98FE-4F4C-9333-FE55BB5FB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5DD4-E0AC-4FBE-AED8-962BEFBF1B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7CEF-3E1A-46F0-8BF5-2E0FBEF9B3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27F0-ED97-40B5-BEFA-5822741075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6376-04EA-43F6-AD46-FDE34282B5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12C9-E8A2-4E8A-9533-C2A91CA4D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6C59-3FF3-49CE-BA2B-BAD6ADCF7D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229F-0BA2-444F-9EE1-31056F53F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70CE-2C82-402C-A23C-A832FEFC96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B04D-701C-4A99-94A7-840DEC5CEE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80B9-776F-4F5D-9E81-9CBF87582A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E86E-594F-43AC-B940-8441BDC507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C71F-1251-435B-9FF7-5B859EAFE2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6FF2-32F3-4EE1-867E-F027B3107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46BD-1DF8-489E-803C-53ABE53D14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F8E0-83E6-4E55-8826-57712969B4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FD1B-D622-472F-B05F-3C4D4401B7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9FDE-BDF7-427F-97D6-9447610A1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DDB3-7E24-405F-9079-BCBCE5B0B1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446B-4907-4EE1-9702-1378AB9FD8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6F35-765A-444E-A27E-4E92520BA5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B9F-6006-4EB1-90CB-FF95CA3F50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07B9-664A-48CF-8FD8-48F1417BFC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F543-A49E-4D5E-BBDA-0BB0B43966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A9FD-7587-4B66-B9F9-B048495D03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452600" y="2390760"/>
            <a:ext cx="6124680" cy="6667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604800" y="3324240"/>
            <a:ext cx="7896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6737" descr=""/>
          <p:cNvPicPr/>
          <p:nvPr/>
        </p:nvPicPr>
        <p:blipFill>
          <a:blip r:embed="rId1"/>
          <a:stretch/>
        </p:blipFill>
        <p:spPr>
          <a:xfrm>
            <a:off x="581040" y="890640"/>
            <a:ext cx="7981920" cy="507672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6738"/>
          <p:cNvSpPr/>
          <p:nvPr/>
        </p:nvSpPr>
        <p:spPr>
          <a:xfrm>
            <a:off x="5148360" y="2019240"/>
            <a:ext cx="1714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6739"/>
          <p:cNvSpPr/>
          <p:nvPr/>
        </p:nvSpPr>
        <p:spPr>
          <a:xfrm>
            <a:off x="5776920" y="2575080"/>
            <a:ext cx="181944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6740"/>
          <p:cNvSpPr/>
          <p:nvPr/>
        </p:nvSpPr>
        <p:spPr>
          <a:xfrm>
            <a:off x="5796000" y="3193920"/>
            <a:ext cx="876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6741"/>
          <p:cNvSpPr/>
          <p:nvPr/>
        </p:nvSpPr>
        <p:spPr>
          <a:xfrm>
            <a:off x="4067280" y="3789360"/>
            <a:ext cx="23050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6742"/>
          <p:cNvSpPr/>
          <p:nvPr/>
        </p:nvSpPr>
        <p:spPr>
          <a:xfrm>
            <a:off x="4067280" y="4349880"/>
            <a:ext cx="876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6743"/>
          <p:cNvSpPr/>
          <p:nvPr/>
        </p:nvSpPr>
        <p:spPr>
          <a:xfrm>
            <a:off x="4067280" y="4941720"/>
            <a:ext cx="2838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6744"/>
          <p:cNvSpPr/>
          <p:nvPr/>
        </p:nvSpPr>
        <p:spPr>
          <a:xfrm>
            <a:off x="4067280" y="4941720"/>
            <a:ext cx="2838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6745"/>
          <p:cNvSpPr/>
          <p:nvPr/>
        </p:nvSpPr>
        <p:spPr>
          <a:xfrm>
            <a:off x="6084720" y="5516640"/>
            <a:ext cx="18194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5713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7924680" cy="400320"/>
          </a:xfrm>
          <a:prstGeom prst="rect">
            <a:avLst/>
          </a:prstGeom>
          <a:ln w="0">
            <a:noFill/>
          </a:ln>
        </p:spPr>
      </p:pic>
      <p:pic>
        <p:nvPicPr>
          <p:cNvPr id="1489" name="图片 115714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391520" cy="4943520"/>
          </a:xfrm>
          <a:prstGeom prst="rect">
            <a:avLst/>
          </a:prstGeom>
          <a:ln w="0">
            <a:noFill/>
          </a:ln>
        </p:spPr>
      </p:pic>
      <p:pic>
        <p:nvPicPr>
          <p:cNvPr id="1490" name="图片 115715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3838680" cy="40032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15716"/>
          <p:cNvSpPr/>
          <p:nvPr/>
        </p:nvSpPr>
        <p:spPr>
          <a:xfrm>
            <a:off x="5853240" y="340056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5717"/>
          <p:cNvSpPr/>
          <p:nvPr/>
        </p:nvSpPr>
        <p:spPr>
          <a:xfrm>
            <a:off x="3132000" y="407664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5718"/>
          <p:cNvSpPr/>
          <p:nvPr/>
        </p:nvSpPr>
        <p:spPr>
          <a:xfrm>
            <a:off x="7236000" y="472428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5719"/>
          <p:cNvSpPr/>
          <p:nvPr/>
        </p:nvSpPr>
        <p:spPr>
          <a:xfrm>
            <a:off x="4500720" y="54450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5720"/>
          <p:cNvSpPr/>
          <p:nvPr/>
        </p:nvSpPr>
        <p:spPr>
          <a:xfrm>
            <a:off x="3059280" y="616572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5721"/>
          <p:cNvSpPr/>
          <p:nvPr/>
        </p:nvSpPr>
        <p:spPr>
          <a:xfrm>
            <a:off x="5867280" y="6093000"/>
            <a:ext cx="44784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14689" descr=""/>
          <p:cNvPicPr/>
          <p:nvPr/>
        </p:nvPicPr>
        <p:blipFill>
          <a:blip r:embed="rId1"/>
          <a:stretch/>
        </p:blipFill>
        <p:spPr>
          <a:xfrm>
            <a:off x="838080" y="2009880"/>
            <a:ext cx="7467840" cy="283824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14690"/>
          <p:cNvSpPr/>
          <p:nvPr/>
        </p:nvSpPr>
        <p:spPr>
          <a:xfrm>
            <a:off x="2062080" y="3181320"/>
            <a:ext cx="36385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4691"/>
          <p:cNvSpPr/>
          <p:nvPr/>
        </p:nvSpPr>
        <p:spPr>
          <a:xfrm>
            <a:off x="1898640" y="3754440"/>
            <a:ext cx="36385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4692"/>
          <p:cNvSpPr/>
          <p:nvPr/>
        </p:nvSpPr>
        <p:spPr>
          <a:xfrm>
            <a:off x="1908000" y="4365720"/>
            <a:ext cx="5134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113665" descr=""/>
          <p:cNvPicPr/>
          <p:nvPr/>
        </p:nvPicPr>
        <p:blipFill>
          <a:blip r:embed="rId1"/>
          <a:stretch/>
        </p:blipFill>
        <p:spPr>
          <a:xfrm>
            <a:off x="533520" y="1414440"/>
            <a:ext cx="8076960" cy="4029120"/>
          </a:xfrm>
          <a:prstGeom prst="rect">
            <a:avLst/>
          </a:prstGeom>
          <a:ln w="0">
            <a:noFill/>
          </a:ln>
        </p:spPr>
      </p:pic>
      <p:sp>
        <p:nvSpPr>
          <p:cNvPr id="1502" name="矩形 113666"/>
          <p:cNvSpPr/>
          <p:nvPr/>
        </p:nvSpPr>
        <p:spPr>
          <a:xfrm>
            <a:off x="5853240" y="43434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12641" descr=""/>
          <p:cNvPicPr/>
          <p:nvPr/>
        </p:nvPicPr>
        <p:blipFill>
          <a:blip r:embed="rId1"/>
          <a:stretch/>
        </p:blipFill>
        <p:spPr>
          <a:xfrm>
            <a:off x="843120" y="1500120"/>
            <a:ext cx="7457760" cy="385776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12642"/>
          <p:cNvSpPr/>
          <p:nvPr/>
        </p:nvSpPr>
        <p:spPr>
          <a:xfrm>
            <a:off x="3681360" y="2133720"/>
            <a:ext cx="22194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2643"/>
          <p:cNvSpPr/>
          <p:nvPr/>
        </p:nvSpPr>
        <p:spPr>
          <a:xfrm>
            <a:off x="4433760" y="4476600"/>
            <a:ext cx="1200240" cy="7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44080" cy="561960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4067280" y="1916280"/>
            <a:ext cx="4284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5364000" y="1916280"/>
            <a:ext cx="8766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7596360" y="1916280"/>
            <a:ext cx="4284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1332000" y="2286000"/>
            <a:ext cx="5522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3699000" y="2665440"/>
            <a:ext cx="8571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5"/>
          <p:cNvSpPr/>
          <p:nvPr/>
        </p:nvSpPr>
        <p:spPr>
          <a:xfrm>
            <a:off x="5148360" y="2670120"/>
            <a:ext cx="14000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6"/>
          <p:cNvSpPr/>
          <p:nvPr/>
        </p:nvSpPr>
        <p:spPr>
          <a:xfrm>
            <a:off x="4951440" y="3444840"/>
            <a:ext cx="428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7"/>
          <p:cNvSpPr/>
          <p:nvPr/>
        </p:nvSpPr>
        <p:spPr>
          <a:xfrm>
            <a:off x="2987640" y="4076640"/>
            <a:ext cx="428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8"/>
          <p:cNvSpPr/>
          <p:nvPr/>
        </p:nvSpPr>
        <p:spPr>
          <a:xfrm>
            <a:off x="8082000" y="4076640"/>
            <a:ext cx="428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39"/>
          <p:cNvSpPr/>
          <p:nvPr/>
        </p:nvSpPr>
        <p:spPr>
          <a:xfrm>
            <a:off x="3879720" y="6111720"/>
            <a:ext cx="6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0"/>
          <p:cNvSpPr/>
          <p:nvPr/>
        </p:nvSpPr>
        <p:spPr>
          <a:xfrm>
            <a:off x="5364000" y="6127920"/>
            <a:ext cx="638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3905" descr=""/>
          <p:cNvPicPr/>
          <p:nvPr/>
        </p:nvPicPr>
        <p:blipFill>
          <a:blip r:embed="rId1"/>
          <a:stretch/>
        </p:blipFill>
        <p:spPr>
          <a:xfrm>
            <a:off x="399960" y="1328760"/>
            <a:ext cx="8344080" cy="420048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3906"/>
          <p:cNvSpPr/>
          <p:nvPr/>
        </p:nvSpPr>
        <p:spPr>
          <a:xfrm>
            <a:off x="8148600" y="3019320"/>
            <a:ext cx="428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2881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81880" cy="522000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2882"/>
          <p:cNvSpPr/>
          <p:nvPr/>
        </p:nvSpPr>
        <p:spPr>
          <a:xfrm>
            <a:off x="5529240" y="125748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2883"/>
          <p:cNvSpPr/>
          <p:nvPr/>
        </p:nvSpPr>
        <p:spPr>
          <a:xfrm>
            <a:off x="2843280" y="1628640"/>
            <a:ext cx="619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2884"/>
          <p:cNvSpPr/>
          <p:nvPr/>
        </p:nvSpPr>
        <p:spPr>
          <a:xfrm>
            <a:off x="7885080" y="1628640"/>
            <a:ext cx="619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2885"/>
          <p:cNvSpPr/>
          <p:nvPr/>
        </p:nvSpPr>
        <p:spPr>
          <a:xfrm>
            <a:off x="2050920" y="201312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2886"/>
          <p:cNvSpPr/>
          <p:nvPr/>
        </p:nvSpPr>
        <p:spPr>
          <a:xfrm>
            <a:off x="5508720" y="2401920"/>
            <a:ext cx="9046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2887"/>
          <p:cNvSpPr/>
          <p:nvPr/>
        </p:nvSpPr>
        <p:spPr>
          <a:xfrm>
            <a:off x="8224920" y="237816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2888"/>
          <p:cNvSpPr/>
          <p:nvPr/>
        </p:nvSpPr>
        <p:spPr>
          <a:xfrm>
            <a:off x="3708360" y="278136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2889"/>
          <p:cNvSpPr/>
          <p:nvPr/>
        </p:nvSpPr>
        <p:spPr>
          <a:xfrm>
            <a:off x="6804000" y="278136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2890"/>
          <p:cNvSpPr/>
          <p:nvPr/>
        </p:nvSpPr>
        <p:spPr>
          <a:xfrm>
            <a:off x="2050920" y="314172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2891"/>
          <p:cNvSpPr/>
          <p:nvPr/>
        </p:nvSpPr>
        <p:spPr>
          <a:xfrm>
            <a:off x="5219640" y="314172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2892"/>
          <p:cNvSpPr/>
          <p:nvPr/>
        </p:nvSpPr>
        <p:spPr>
          <a:xfrm>
            <a:off x="7596360" y="3141720"/>
            <a:ext cx="6188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2893"/>
          <p:cNvSpPr/>
          <p:nvPr/>
        </p:nvSpPr>
        <p:spPr>
          <a:xfrm>
            <a:off x="1476360" y="3500280"/>
            <a:ext cx="619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2894"/>
          <p:cNvSpPr/>
          <p:nvPr/>
        </p:nvSpPr>
        <p:spPr>
          <a:xfrm>
            <a:off x="4067280" y="3500280"/>
            <a:ext cx="619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2895"/>
          <p:cNvSpPr/>
          <p:nvPr/>
        </p:nvSpPr>
        <p:spPr>
          <a:xfrm>
            <a:off x="8158320" y="4371840"/>
            <a:ext cx="428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21857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01000" cy="424836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1858"/>
          <p:cNvSpPr/>
          <p:nvPr/>
        </p:nvSpPr>
        <p:spPr>
          <a:xfrm>
            <a:off x="7786800" y="193356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1859"/>
          <p:cNvSpPr/>
          <p:nvPr/>
        </p:nvSpPr>
        <p:spPr>
          <a:xfrm>
            <a:off x="7812000" y="458136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20833" descr=""/>
          <p:cNvPicPr/>
          <p:nvPr/>
        </p:nvPicPr>
        <p:blipFill>
          <a:blip r:embed="rId1"/>
          <a:stretch/>
        </p:blipFill>
        <p:spPr>
          <a:xfrm>
            <a:off x="557280" y="923760"/>
            <a:ext cx="8029440" cy="5010480"/>
          </a:xfrm>
          <a:prstGeom prst="rect">
            <a:avLst/>
          </a:prstGeom>
          <a:ln w="0">
            <a:noFill/>
          </a:ln>
        </p:spPr>
      </p:pic>
      <p:sp>
        <p:nvSpPr>
          <p:cNvPr id="1467" name="矩形 120834"/>
          <p:cNvSpPr/>
          <p:nvPr/>
        </p:nvSpPr>
        <p:spPr>
          <a:xfrm>
            <a:off x="5462640" y="268596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9809" descr=""/>
          <p:cNvPicPr/>
          <p:nvPr/>
        </p:nvPicPr>
        <p:blipFill>
          <a:blip r:embed="rId1"/>
          <a:stretch/>
        </p:blipFill>
        <p:spPr>
          <a:xfrm>
            <a:off x="557280" y="1233360"/>
            <a:ext cx="8029440" cy="439128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9810"/>
          <p:cNvSpPr/>
          <p:nvPr/>
        </p:nvSpPr>
        <p:spPr>
          <a:xfrm>
            <a:off x="7777080" y="124776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9811"/>
          <p:cNvSpPr/>
          <p:nvPr/>
        </p:nvSpPr>
        <p:spPr>
          <a:xfrm>
            <a:off x="7812000" y="472428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878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29440" cy="4419720"/>
          </a:xfrm>
          <a:prstGeom prst="rect">
            <a:avLst/>
          </a:prstGeom>
          <a:ln w="0">
            <a:noFill/>
          </a:ln>
        </p:spPr>
      </p:pic>
      <p:pic>
        <p:nvPicPr>
          <p:cNvPr id="1472" name="图片 118786" descr=""/>
          <p:cNvPicPr/>
          <p:nvPr/>
        </p:nvPicPr>
        <p:blipFill>
          <a:blip r:embed="rId2"/>
          <a:stretch/>
        </p:blipFill>
        <p:spPr>
          <a:xfrm>
            <a:off x="1042920" y="544500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1473" name="图片 118787" descr=""/>
          <p:cNvPicPr/>
          <p:nvPr/>
        </p:nvPicPr>
        <p:blipFill>
          <a:blip r:embed="rId3"/>
          <a:stretch/>
        </p:blipFill>
        <p:spPr>
          <a:xfrm>
            <a:off x="7740720" y="4797360"/>
            <a:ext cx="1038240" cy="36216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18788"/>
          <p:cNvSpPr/>
          <p:nvPr/>
        </p:nvSpPr>
        <p:spPr>
          <a:xfrm>
            <a:off x="7996320" y="476244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7761" descr=""/>
          <p:cNvPicPr/>
          <p:nvPr/>
        </p:nvPicPr>
        <p:blipFill>
          <a:blip r:embed="rId1"/>
          <a:stretch/>
        </p:blipFill>
        <p:spPr>
          <a:xfrm>
            <a:off x="571680" y="1728720"/>
            <a:ext cx="8001000" cy="340056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17762"/>
          <p:cNvSpPr/>
          <p:nvPr/>
        </p:nvSpPr>
        <p:spPr>
          <a:xfrm>
            <a:off x="6891480" y="40482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7763"/>
          <p:cNvSpPr/>
          <p:nvPr/>
        </p:nvSpPr>
        <p:spPr>
          <a:xfrm>
            <a:off x="2195640" y="46530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7764"/>
          <p:cNvSpPr/>
          <p:nvPr/>
        </p:nvSpPr>
        <p:spPr>
          <a:xfrm>
            <a:off x="5508720" y="46530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5:36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